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1266-3283-4253-9A8D-34F4C0FE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CC62-B17D-4327-9F80-E7119CF7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B429-EDF2-4904-9866-35C92398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834A-E6C5-4910-9146-C67F8949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CE8E-728B-4DEC-8F0C-9C1CE18D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9F18-3F5D-4417-83DB-5A87BAFD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D7E4-3509-41E4-B7DD-5AB7779C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5967-F596-456F-9137-12265C39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F008-DFFD-47B5-9829-EF562EC9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CBF9-4822-4626-AB37-F05E0737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8EDC-2F9D-4A2D-A3F4-D3383699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9FEB-4270-47BB-BB63-695BD692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9C5B-3345-46DD-8CB3-5CD42955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87A2-3365-43BB-B986-48747D5F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BEE8-7618-4F72-996F-347D5A57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2A35-B416-4A0E-84F1-9486EB90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50B1-A5B0-4528-9621-C11492F9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1D735-BFCD-4DB2-8C3D-0CC8D1AB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6B740-0527-4527-940D-303632A3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80531-C289-4FCB-8EA0-31B99DC9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83A8A-4715-41B6-B724-E92D1474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E6317-F804-4D6C-A42B-458C9C4C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BE0D-4743-4064-A27C-4BE1BB3F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FE65C-1451-48B8-80C6-9B43105C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8ED49-EA48-490C-A639-4E0A82E4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5126E-AE5D-4D03-B243-5108DAC5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20E46-1CCC-400D-ACC2-4D19DBA2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7DFC3-E464-429B-A577-1B70B85E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D6D37-8E2B-4972-8847-5DD6E38B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B3CDB-0072-40DE-88BE-C7A33229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739FD-5F8C-40BE-B67E-9C4CB465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2451C-7507-4ADD-9D05-A4BE962C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2C3E4-A670-4A47-85DC-A6EB7598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E4ED-512B-4EE6-94F8-1A21250B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61E93-9E42-4976-8241-84FF4BC8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133F5-D4D4-40C1-8051-D3C2A970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756CD-0789-4A88-8163-68076396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D4A52-8B16-4D43-825E-6DBBA957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FF42F-2DB2-43F2-8A00-E7924BC9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A4959-4434-4A24-AD88-F2686344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DB898-62A5-4969-9693-1A645B40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3C7D0-99B1-4046-A684-7FBA1A88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B38BD-EEFA-49CF-A814-6DEF736E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76714-FFB5-4095-9965-CD9ACECD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9874-0BEB-4BED-B1AB-C6B52481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33709-81E5-4211-9DCD-2DB22D70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6CC78-F8B2-4AEE-A084-6E7A11B1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59FCA-F0BC-45AF-B278-DC310A47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FA5AD-97AA-4209-A0C4-B2B0F9C0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F562C-721F-44B3-86EB-C282F261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EB79A-DE69-4782-B174-5D061859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2281C-0DB7-4560-8FB7-3465D2CC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28F07-4356-4EA6-89F4-C38C4154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B07D3-15F4-4E69-B2BB-46E2E055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FA9EE-C17B-47D0-A1A0-DE3D93A8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BA02-4F8B-48FB-97B5-AE200E0A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DC545-F6D7-44A6-8A3E-12AE7EA7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FC955-F4F1-4470-9C4B-8592B608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79EB9-F8F8-437A-9DDE-41677BE0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21C5C-9F3E-442A-A8A7-AAA73BA5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C8DB3-BBED-45BF-9F21-F84662A0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B7FE6-DB5A-4EF5-97F9-09706009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67912-AED6-4EC6-81FF-29002DEA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52ADA-8055-4275-B4CE-C5FA57BE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2ADA7-A265-45DF-847A-F5522BD2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2DFA4-CF94-4467-8828-B272BCDE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1DA-520F-4040-A4B5-B2CCCF4B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5039B-486A-4E54-8796-EEF51B63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77F76-018C-49B2-97D4-A7783B2A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B35E4-F69C-4CF0-8A36-0DD4BE5F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D2C1-171E-4997-84DD-96D22CFF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B484-C911-457A-919F-6BDD87BB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1F18-724F-4260-B736-AE9B0538C64B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AA47-6F66-49F8-99A0-E769051D24F1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341F-C27D-4A1B-AD8E-1C5929FA2EE5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5515-3712-46BF-8915-D930BBE7D729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05CF-2BF2-4561-B139-B2C23EDE981C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46C2-3D7F-43BE-B00D-A0EA3FC63FA8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640720" cy="41036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Прямая реч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Arial"/>
              </a:rPr>
              <a:t>Материал к уроку.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Учитывая смысл данных ниже слов автора, придумайте прямую речь, вставьте ее на месте пропуска и запишите получившиеся предложения с прямой речью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_ _», - робко проговорил мальч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_ _?» - тихо спросила девоч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_ _!» – шепотом ответила ма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_ _!» - громко крикнул брат и отворил двер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_ _», - взволнованно сказала бабуш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_ _», - уверенно произнес дру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Вместо предложений с прямой речью запишите сложные предложения с союзом </a:t>
            </a:r>
            <a:r>
              <a:rPr b="1" lang="ru-RU" sz="2800" spc="-1" strike="noStrike">
                <a:solidFill>
                  <a:srgbClr val="672020"/>
                </a:solidFill>
                <a:latin typeface="Franklin Gothic Book"/>
              </a:rPr>
              <a:t>что</a:t>
            </a: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разе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итя сообщил: «В первый четверг октября к нам в гости приедут артисты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итя сообщил, </a:t>
            </a:r>
            <a:r>
              <a:rPr b="0" lang="ru-RU" sz="3600" spc="-1" strike="noStrike">
                <a:solidFill>
                  <a:srgbClr val="672020"/>
                </a:solidFill>
                <a:latin typeface="Arial"/>
              </a:rPr>
              <a:t>что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в первый четверг октября к ним приедут артист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6840" y="475920"/>
            <a:ext cx="8147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ассный руководитель объявил нам: «В понедельник будет общешкольное собрани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роста сказал: «Смотр художественной самодеятельности состоится в следующую среду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па писал: «Я вернусь из командировки не раньше воскресень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жатая предупредила нас: «Сбор макулатуры назначается на вторник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63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Прочитайте текст. Озаглавьте его, затем спишите, расставляя знаки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1052280"/>
            <a:ext cx="8964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 обеда папа сел за какую-то книгу, но потом отложил ее в сторону и спросил Вася, как дела в школе. Изо всех сил Вася старался скрыть радостную улыбку. Он подал тетрадь и произнес Вчера был диктант. Вот, вернули с отметками. Отец перелистал несколько страниц и увидел пятерку.  И как же ты ошибок не наделал спросил папа. Со мной Нина сидит, а она, знаешь, как пишет похвастался Вася.  Вот оно что протянул отец. А потом добавил Значит, ты сегодня не свою, а чужую пятерку принес. Лицо у Васи стало растерянным и жалким, улыбки как не быва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.Рос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Вспомним основные схемы предложений с прямой речью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11280" y="1397160"/>
          <a:ext cx="7921440" cy="500364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П!» - а.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: «П!»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154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П?» – а.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: «П?»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154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П», - а.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: «П».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  <p:sp>
        <p:nvSpPr>
          <p:cNvPr id="257" name="Управляющая кнопка: домой 4">
            <a:hlinkClick r:id="rId1" action="ppaction://hlinksldjump"/>
          </p:cNvPr>
          <p:cNvSpPr/>
          <p:nvPr/>
        </p:nvSpPr>
        <p:spPr>
          <a:xfrm>
            <a:off x="8028000" y="6093000"/>
            <a:ext cx="863640" cy="549000"/>
          </a:xfrm>
          <a:custGeom>
            <a:avLst/>
            <a:gdLst>
              <a:gd name="textAreaLeft" fmla="*/ 35280 w 863640"/>
              <a:gd name="textAreaRight" fmla="*/ 828360 w 86364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33971" h="21600">
                <a:moveTo>
                  <a:pt x="0" y="0"/>
                </a:moveTo>
                <a:lnTo>
                  <a:pt x="33971" y="0"/>
                </a:lnTo>
                <a:lnTo>
                  <a:pt x="33971" y="21600"/>
                </a:lnTo>
                <a:lnTo>
                  <a:pt x="0" y="21600"/>
                </a:lnTo>
                <a:close/>
              </a:path>
              <a:path fill="lightenLess" w="33971" h="21600">
                <a:moveTo>
                  <a:pt x="0" y="0"/>
                </a:moveTo>
                <a:lnTo>
                  <a:pt x="33971" y="0"/>
                </a:lnTo>
                <a:lnTo>
                  <a:pt x="32571" y="1400"/>
                </a:lnTo>
                <a:lnTo>
                  <a:pt x="1400" y="1400"/>
                </a:lnTo>
                <a:close/>
              </a:path>
              <a:path fill="darken" w="33971" h="21600">
                <a:moveTo>
                  <a:pt x="33971" y="0"/>
                </a:moveTo>
                <a:lnTo>
                  <a:pt x="33971" y="21600"/>
                </a:lnTo>
                <a:lnTo>
                  <a:pt x="32571" y="20200"/>
                </a:lnTo>
                <a:lnTo>
                  <a:pt x="32571" y="1400"/>
                </a:lnTo>
                <a:close/>
              </a:path>
              <a:path fill="darkenLess" w="33971" h="21600">
                <a:moveTo>
                  <a:pt x="339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1" y="20200"/>
                </a:lnTo>
                <a:close/>
              </a:path>
              <a:path fill="lighten" w="339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71" h="21600">
                <a:moveTo>
                  <a:pt x="16986" y="3837"/>
                </a:moveTo>
                <a:lnTo>
                  <a:pt x="19562" y="6448"/>
                </a:lnTo>
                <a:lnTo>
                  <a:pt x="19562" y="4707"/>
                </a:lnTo>
                <a:lnTo>
                  <a:pt x="21337" y="4707"/>
                </a:lnTo>
                <a:lnTo>
                  <a:pt x="21337" y="8224"/>
                </a:lnTo>
                <a:lnTo>
                  <a:pt x="23949" y="10800"/>
                </a:lnTo>
                <a:lnTo>
                  <a:pt x="22295" y="10800"/>
                </a:lnTo>
                <a:lnTo>
                  <a:pt x="22295" y="17989"/>
                </a:lnTo>
                <a:lnTo>
                  <a:pt x="11676" y="17989"/>
                </a:lnTo>
                <a:lnTo>
                  <a:pt x="11676" y="10800"/>
                </a:lnTo>
                <a:lnTo>
                  <a:pt x="10023" y="10800"/>
                </a:lnTo>
                <a:close/>
              </a:path>
              <a:path fill="darkenLess" w="33971" h="21600">
                <a:moveTo>
                  <a:pt x="19562" y="6448"/>
                </a:moveTo>
                <a:lnTo>
                  <a:pt x="19562" y="4707"/>
                </a:lnTo>
                <a:lnTo>
                  <a:pt x="21337" y="4707"/>
                </a:lnTo>
                <a:lnTo>
                  <a:pt x="21337" y="8224"/>
                </a:lnTo>
                <a:close/>
              </a:path>
              <a:path fill="darkenLess" w="33971" h="21600">
                <a:moveTo>
                  <a:pt x="16063" y="14299"/>
                </a:moveTo>
                <a:lnTo>
                  <a:pt x="17908" y="14299"/>
                </a:lnTo>
                <a:lnTo>
                  <a:pt x="17908" y="17989"/>
                </a:lnTo>
                <a:lnTo>
                  <a:pt x="22295" y="17989"/>
                </a:lnTo>
                <a:lnTo>
                  <a:pt x="22295" y="10800"/>
                </a:lnTo>
                <a:lnTo>
                  <a:pt x="11676" y="10800"/>
                </a:lnTo>
                <a:lnTo>
                  <a:pt x="11676" y="17989"/>
                </a:lnTo>
                <a:lnTo>
                  <a:pt x="16063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Прочитайте предложения из книг Э.Успенского. Составьте их схемы. Объясните постановку знаков препинания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Вам, наверное, нужны друзья?» - спросил обезьянку Крокодил Ген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В вашем объявлении целых три ошибки», - сказала девоч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Не может быть!» - воскликнул Ген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арушка уселась на стул и спросила: «Кто из вас будет Крокодил?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5516280"/>
            <a:ext cx="864072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Как называются выделенные слова? Объясните постановку знаков препинания при них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39640" y="1628280"/>
            <a:ext cx="806472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т в сапогах спросил: «Можете ли вы, </a:t>
            </a:r>
            <a:r>
              <a:rPr b="0" lang="ru-RU" sz="3200" spc="-1" strike="noStrike">
                <a:solidFill>
                  <a:srgbClr val="901929"/>
                </a:solidFill>
                <a:latin typeface="Arial"/>
              </a:rPr>
              <a:t>уважаемый людое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превратиться в зверька поменьше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юдоед ответил: «</a:t>
            </a:r>
            <a:r>
              <a:rPr b="0" lang="ru-RU" sz="3200" spc="-1" strike="noStrike">
                <a:solidFill>
                  <a:srgbClr val="901929"/>
                </a:solidFill>
                <a:latin typeface="Arial"/>
              </a:rPr>
              <a:t>Конечн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могу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т в сапогах сказал: «Тогда превратитесь, </a:t>
            </a:r>
            <a:r>
              <a:rPr b="0" lang="ru-RU" sz="3200" spc="-1" strike="noStrike">
                <a:solidFill>
                  <a:srgbClr val="901929"/>
                </a:solidFill>
                <a:latin typeface="Arial"/>
              </a:rPr>
              <a:t>пожалуйст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в мышь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Заголовок 1"/>
          <p:cNvSpPr/>
          <p:nvPr/>
        </p:nvSpPr>
        <p:spPr>
          <a:xfrm>
            <a:off x="324000" y="404640"/>
            <a:ext cx="864072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Переделайте предложения так, чтобы прямая речь предшествовала словам авто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49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Переделайте предложения так, чтобы прямая речь следовала за словами автора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39640" y="1916280"/>
            <a:ext cx="82915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0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Где же река?» – спросил я у Сашк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Вон там за лесом», - ответил он, указывая рукой вдал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Как далеко!» - огорчился 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В словах автора выделены глаголы. При списывании подчеркните тот глагол, который вводит прямую речь в высказывание. Поставьте пропущенные знаки препинания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24000" y="1413000"/>
            <a:ext cx="864072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Федя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посм..трел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на обл..ка и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сказал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Гроза буд..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ена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отв..ла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Машу в стор..ну и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спросила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А разве Саша Коншаков не р..ботает с вами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ша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подб..жала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к дедушке и ро..ко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спр..сила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едушка а когда же землю начнем к..п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анька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посмотрел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в поле и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произнес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Весна-то какая Маш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3"/>
          <p:cNvSpPr/>
          <p:nvPr/>
        </p:nvSpPr>
        <p:spPr>
          <a:xfrm>
            <a:off x="1332000" y="61657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д обращением поставьте букву 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893080" cy="93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Franklin Gothic Book"/>
              </a:rPr>
              <a:t>Миша Лентяйкин пришел в школу довольный. «Вот какой рассказ я написал!» - похвастался он. Давайте прочтем его вместе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8920" y="1052280"/>
            <a:ext cx="8713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днажды папа спросил у Васи: «Сегодня мы пойдем в музей». Вася обрадовался и ответил: «А в какой?» «В исторический», - громко закричал папа. «Ура! – поинтересовался Вася. – Я никогда там не был»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завтракав, они поехали в музей. «Что мы там увидим?» - рассказал Вася папе. «Многое, - задал вопрос отец. – Увидим, как жили люди в древности, какие носили наряды, какое у них было оружие. Увидишь сам»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Управляющая кнопка: далее 3">
            <a:hlinkClick r:id="rId1" action="ppaction://hlinksldjump"/>
          </p:cNvPr>
          <p:cNvSpPr/>
          <p:nvPr/>
        </p:nvSpPr>
        <p:spPr>
          <a:xfrm>
            <a:off x="7885080" y="6308640"/>
            <a:ext cx="1008000" cy="549360"/>
          </a:xfrm>
          <a:custGeom>
            <a:avLst/>
            <a:gdLst>
              <a:gd name="textAreaLeft" fmla="*/ 35280 w 1008000"/>
              <a:gd name="textAreaRight" fmla="*/ 972720 w 1008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9621" h="21600">
                <a:moveTo>
                  <a:pt x="0" y="0"/>
                </a:moveTo>
                <a:lnTo>
                  <a:pt x="39621" y="0"/>
                </a:lnTo>
                <a:lnTo>
                  <a:pt x="39621" y="21600"/>
                </a:lnTo>
                <a:lnTo>
                  <a:pt x="0" y="21600"/>
                </a:lnTo>
                <a:close/>
              </a:path>
              <a:path fill="lightenLess" w="39621" h="21600">
                <a:moveTo>
                  <a:pt x="0" y="0"/>
                </a:moveTo>
                <a:lnTo>
                  <a:pt x="39621" y="0"/>
                </a:lnTo>
                <a:lnTo>
                  <a:pt x="38221" y="1400"/>
                </a:lnTo>
                <a:lnTo>
                  <a:pt x="1400" y="1400"/>
                </a:lnTo>
                <a:close/>
              </a:path>
              <a:path fill="darken" w="39621" h="21600">
                <a:moveTo>
                  <a:pt x="39621" y="0"/>
                </a:moveTo>
                <a:lnTo>
                  <a:pt x="39621" y="21600"/>
                </a:lnTo>
                <a:lnTo>
                  <a:pt x="38221" y="20200"/>
                </a:lnTo>
                <a:lnTo>
                  <a:pt x="38221" y="1400"/>
                </a:lnTo>
                <a:close/>
              </a:path>
              <a:path fill="darkenLess" w="39621" h="21600">
                <a:moveTo>
                  <a:pt x="39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21" y="20200"/>
                </a:lnTo>
                <a:close/>
              </a:path>
              <a:path fill="lighten" w="39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21" h="21600">
                <a:moveTo>
                  <a:pt x="12804" y="3794"/>
                </a:moveTo>
                <a:lnTo>
                  <a:pt x="26817" y="10800"/>
                </a:lnTo>
                <a:lnTo>
                  <a:pt x="12804" y="17806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94920" y="549360"/>
            <a:ext cx="828036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ажется ли вам Мишин текст смешным? Почем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осмотрел на рассказ его приятель Дима Пятеркин, покачал головой и стал исправлять. Запишите и вы Мишин рассказ в исправленном виде.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3276720" y="5589720"/>
            <a:ext cx="1224000" cy="647640"/>
          </a:xfrm>
          <a:custGeom>
            <a:avLst/>
            <a:gdLst>
              <a:gd name="textAreaLeft" fmla="*/ 41760 w 1224000"/>
              <a:gd name="textAreaRight" fmla="*/ 1182240 w 1224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0812" h="21600">
                <a:moveTo>
                  <a:pt x="0" y="0"/>
                </a:moveTo>
                <a:lnTo>
                  <a:pt x="40812" y="0"/>
                </a:lnTo>
                <a:lnTo>
                  <a:pt x="40812" y="21600"/>
                </a:lnTo>
                <a:lnTo>
                  <a:pt x="0" y="21600"/>
                </a:lnTo>
                <a:close/>
              </a:path>
              <a:path fill="lightenLess" w="40812" h="21600">
                <a:moveTo>
                  <a:pt x="0" y="0"/>
                </a:moveTo>
                <a:lnTo>
                  <a:pt x="40812" y="0"/>
                </a:lnTo>
                <a:lnTo>
                  <a:pt x="39412" y="1400"/>
                </a:lnTo>
                <a:lnTo>
                  <a:pt x="1400" y="1400"/>
                </a:lnTo>
                <a:close/>
              </a:path>
              <a:path fill="darken" w="40812" h="21600">
                <a:moveTo>
                  <a:pt x="40812" y="0"/>
                </a:moveTo>
                <a:lnTo>
                  <a:pt x="40812" y="21600"/>
                </a:lnTo>
                <a:lnTo>
                  <a:pt x="39412" y="20200"/>
                </a:lnTo>
                <a:lnTo>
                  <a:pt x="39412" y="1400"/>
                </a:lnTo>
                <a:close/>
              </a:path>
              <a:path fill="darkenLess" w="40812" h="21600">
                <a:moveTo>
                  <a:pt x="40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12" y="20200"/>
                </a:lnTo>
                <a:close/>
              </a:path>
              <a:path fill="lighten" w="40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12" h="21600">
                <a:moveTo>
                  <a:pt x="13400" y="10800"/>
                </a:moveTo>
                <a:lnTo>
                  <a:pt x="27412" y="3794"/>
                </a:lnTo>
                <a:lnTo>
                  <a:pt x="27412" y="17806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Box 7"/>
          <p:cNvSpPr/>
          <p:nvPr/>
        </p:nvSpPr>
        <p:spPr>
          <a:xfrm>
            <a:off x="4572000" y="5732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вратиться к текс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Придумайте прямую речь и вставьте ее на месте пропуска. Запишите получившиеся предложения с прямой речью, расставьте знаки препинания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читель спросил _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иректор говорил 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жатый сказал __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ежурный рассказал 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хожий обратился с вопросом к ребятам ________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льчик воскликнул 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ароста объявил _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омандир группы скомандовал 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Управляющая кнопка: в начало 3">
            <a:hlinkClick r:id="rId1" action="ppaction://hlinksldjump"/>
          </p:cNvPr>
          <p:cNvSpPr/>
          <p:nvPr/>
        </p:nvSpPr>
        <p:spPr>
          <a:xfrm>
            <a:off x="7667640" y="6021360"/>
            <a:ext cx="1152360" cy="503280"/>
          </a:xfrm>
          <a:custGeom>
            <a:avLst/>
            <a:gdLst>
              <a:gd name="textAreaLeft" fmla="*/ 32400 w 1152360"/>
              <a:gd name="textAreaRight" fmla="*/ 1119960 w 115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438" h="21600">
                <a:moveTo>
                  <a:pt x="0" y="0"/>
                </a:moveTo>
                <a:lnTo>
                  <a:pt x="49438" y="0"/>
                </a:lnTo>
                <a:lnTo>
                  <a:pt x="49438" y="21600"/>
                </a:lnTo>
                <a:lnTo>
                  <a:pt x="0" y="21600"/>
                </a:lnTo>
                <a:close/>
              </a:path>
              <a:path fill="lightenLess" w="49438" h="21600">
                <a:moveTo>
                  <a:pt x="0" y="0"/>
                </a:moveTo>
                <a:lnTo>
                  <a:pt x="49438" y="0"/>
                </a:lnTo>
                <a:lnTo>
                  <a:pt x="48038" y="1400"/>
                </a:lnTo>
                <a:lnTo>
                  <a:pt x="1400" y="1400"/>
                </a:lnTo>
                <a:close/>
              </a:path>
              <a:path fill="darken" w="49438" h="21600">
                <a:moveTo>
                  <a:pt x="49438" y="0"/>
                </a:moveTo>
                <a:lnTo>
                  <a:pt x="49438" y="21600"/>
                </a:lnTo>
                <a:lnTo>
                  <a:pt x="48038" y="20200"/>
                </a:lnTo>
                <a:lnTo>
                  <a:pt x="48038" y="1400"/>
                </a:lnTo>
                <a:close/>
              </a:path>
              <a:path fill="darkenLess" w="49438" h="21600">
                <a:moveTo>
                  <a:pt x="494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38" y="20200"/>
                </a:lnTo>
                <a:close/>
              </a:path>
              <a:path fill="lighten" w="494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438" h="21600">
                <a:moveTo>
                  <a:pt x="21220" y="10800"/>
                </a:moveTo>
                <a:lnTo>
                  <a:pt x="31725" y="3794"/>
                </a:lnTo>
                <a:lnTo>
                  <a:pt x="31725" y="17806"/>
                </a:lnTo>
                <a:close/>
              </a:path>
              <a:path fill="darken" w="49438" h="21600">
                <a:moveTo>
                  <a:pt x="17712" y="3794"/>
                </a:moveTo>
                <a:lnTo>
                  <a:pt x="19375" y="3794"/>
                </a:lnTo>
                <a:lnTo>
                  <a:pt x="19375" y="17806"/>
                </a:lnTo>
                <a:lnTo>
                  <a:pt x="17712" y="17806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4:40:10Z</dcterms:created>
  <dc:creator>ученик</dc:creator>
  <dc:description/>
  <dc:language>en-US</dc:language>
  <cp:lastModifiedBy>Adel</cp:lastModifiedBy>
  <dcterms:modified xsi:type="dcterms:W3CDTF">2011-03-12T16:33:57Z</dcterms:modified>
  <cp:revision>80</cp:revision>
  <dc:subject/>
  <dc:title>Слайд 1</dc:title>
</cp:coreProperties>
</file>